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380-8685-4E78-9654-08A585BA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312-24C3-4509-909D-D6100FC3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37D-5038-4F06-9F41-8B01E88C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F34-35EA-4E67-9AE1-61242C8C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1C4-8498-43F2-A2FF-0781C42F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50FB-824E-4904-8906-D9D05FD4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E26-378B-47A1-B3CE-AA6DCD35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82C-42BC-40A4-BCB8-037D5845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D7C-1D7D-4FF7-9B4A-8CA9ACEC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FD1-AC99-48BB-94EB-74F821B6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491-9241-45EE-91EC-1D8ED427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9CCC-B9D3-421E-860C-03DB798A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AC02-AA90-4A40-8278-CD94D241C7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危险的美丽植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千世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危险的美丽植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捕蝇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迷幻类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茅膏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猪笼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捕蝇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捕蝇草非常美丽，但同时它是一种最著名的肉食植物，其叶片上长有许多细小的触角。一旦有物体碰到捕蝇草，叶片会自动收拢并将外来物体包夹于其中。维纳斯捕蝇草叶片的合拢速度奇快，时间不到一秒。维纳斯捕蝇草分布的地理范围十分狭小，它们仅存在于美国北卡罗来纳州与南卡罗来纳州海岸一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公里长的地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迷幻类植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迷幻类植物就是罂粟等毒品植物，它们往往有着美丽的花朵和外表，但却是在所有植物物种当中对人类危害最大的物种之一。迷幻类植物中一般都包含有某些化学物质，这些化学物质可以影响动物中枢神经系统，可以临时改变人类的感觉、情绪、意识和行为。以往，有巫师就是利用这种植物来让信徒产生兴奋感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茅膏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茅膏菜也是一种食肉性植物。茅膏菜有明显的茎，茎部长有细小的腺毛，腺毛可以产生一种粘性液体。茅膏菜就是利用这种粘性液体来捕捉昆虫。一旦昆虫被粘上后，茅膏菜的蔓将会合拢将猎物包在其中，并产生一种酶来消化猎物。茅膏菜喜欢生长在水边湿地或湿草甸中，在我国长白山广有分布。茅膏菜亦有治疗疮毒、瘰病的药物功效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猪笼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猪笼草也是十分独特的食虫植物的一种，全世界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以上的猪笼草，原产于印尼、菲律宾、东南亚国家等等气候炎热潮湿、地势低洼的地区。猪笼草的形状体态宛如一个诱捕昆虫的陷阱。它的瓶状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花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捕食小昆虫和蜥蜴。猪笼草的叶片会分泌一种特殊物质，这种物质覆在猪笼草瓶状花冠的内壁上，并与猪笼草根部吸收来的水混合。昆虫或小型动物嗅到混合汁液的气味会前来吸食。当它们落入瓶状花冠中后，就会困在其中无法逃脱，并最终成为猪笼草的养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59:00Z</dcterms:created>
  <dc:creator>qingchen</dc:creator>
  <dc:description>  　 　</dc:description>
  <cp:keywords>　 　</cp:keywords>
  <dc:language>en-US</dc:language>
  <cp:lastModifiedBy>user</cp:lastModifiedBy>
  <dcterms:modified xsi:type="dcterms:W3CDTF">2010-07-23T00:24:08Z</dcterms:modified>
  <cp:revision>6</cp:revision>
  <dc:subject/>
  <dc:title>危险的美丽植物</dc:title>
</cp:coreProperties>
</file>