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B08-7BF8-49F0-B52A-91DC2FF6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D61-65A3-4275-920F-EEEC4F08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003-892B-4946-B58F-4499421D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210-BD8C-4EDC-A09C-B4082D79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B53-4844-4584-A387-D103295B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DF1-C7B8-4337-A7E7-3F10BB15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EF5-5F7B-4F66-A108-5683AD7A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F7D-A1EB-42B3-8A1D-F55A956B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46C-D69C-456C-B0F3-F4F29BCA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B0A-C16E-402E-9B6F-DDBF7044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2CB-2487-44F1-A7A5-1ABD83B6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F39-DA1F-4CE2-8507-0925B664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59D1-DD2F-4BBA-B003-7A7F28D6B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2286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8120"/>
            <a:ext cx="1220760" cy="1220760"/>
          </a:xfrm>
          <a:prstGeom prst="ellipse">
            <a:avLst/>
          </a:prstGeom>
          <a:gradFill rotWithShape="0">
            <a:gsLst>
              <a:gs pos="0">
                <a:srgbClr val="c8c8c8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23240" y="1066680"/>
            <a:ext cx="1220760" cy="1220760"/>
          </a:xfrm>
          <a:prstGeom prst="ellipse">
            <a:avLst/>
          </a:prstGeom>
          <a:gradFill rotWithShape="0">
            <a:gsLst>
              <a:gs pos="0">
                <a:srgbClr val="c8c8c8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低碳生活方式（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3/3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出门骑上自行车，健身环保一举两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少买不必要的衣服，才是环保新时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减少购买过度包装的商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每月少开一天车，节能省油靠自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少用一次性塑料袋，绿色购物节能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低碳生活方式（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2/3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马桶中放几瓶水，就可减少水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选用节能洗衣机，省水省电有奇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坚持无纸办公，节能又环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太阳能热水器，省电又省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多乘公共交通工具出行，减少地球负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低碳生活方式（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1/3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选用节能空调，省电每天做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空调调高一度，节电百分之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点亮节能灯，省电看得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电视机屏幕暗一点，节能又护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完电器拔插头，省电又安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更多低碳生活心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少用纸巾，重拾手帕，保护森林，低碳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随手关灯、开关、拔插头，也是个人修养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坐电梯爬楼梯，省下大家的电，换自己的健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尽量少使用一次性牙刷、一次性塑料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尽量把工作放在白天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随身常备筷子或勺子，已经是环保人士的一种标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未来美好生活靠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  　 　  　  　</dc:description>
  <cp:keywords>　 　  　  　</cp:keywords>
  <dc:language>en-US</dc:language>
  <cp:lastModifiedBy>朱云霞</cp:lastModifiedBy>
  <dcterms:modified xsi:type="dcterms:W3CDTF">2010-07-08T16:45:4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