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C1C-E928-4C4B-B022-B9029010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5DC-416E-40A5-BB2B-E3FC1026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FD9-00EE-434D-BBAC-FB09938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5D5-7600-450D-B302-8FBE863D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673-46D3-4741-9102-3179D34E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885-CBD1-49C5-85CA-D6C8109A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46C-2326-4C93-9B41-0D443DA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96C-E5ED-41F4-BF08-F3D40A1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FFA-976A-40D1-AC9E-3784D9F6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0F9-1889-4F11-B3FD-D71BD39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023-07CB-415C-A344-8D4B70C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B43-9861-43A0-A691-7CA585B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B30C-9BCA-4356-B168-2BE22C7C1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外美食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国巴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餐的诱人之处在于品质完美，选料讲究，菜式精致，口感香醇，并特别注重菜肴的形、型、器、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2737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意大利罗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源自罗马帝国时期的意大利菜，算辈分是“西餐之母”，连法国菜也是受其庇护才有今天的规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3357720"/>
            <a:ext cx="424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本东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本人自称为“彻底的食鱼民族”。日本人吃鱼有生、熟、干、腌等各种吃法，而以生鱼片最为名贵。 国宴或平民请客以招待生鱼片为最高礼节。 日本人称生鱼片为“沙西米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2881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墨西哥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到墨西哥美食的历史就要追溯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前了，墨西哥的旅行者把各种原料从中国、印度、欧洲带回了墨西哥，并与墨西哥的传统菜肴相结合，从而产生了今天的另人叹为观止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种美味的墨西哥菜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西班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塞罗那、马德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到西班牙你会想到什么呢？是铿锵激昂的斗牛士步伐，还是弗拉门戈舞女的斑斓舞姿……西班牙是一个天生激情的民族，只需在西班牙呆上一天，即使是异乡人也会被这种近乎病毒的“激因”给感染。 这里的气候、地理、文化各方面的多元性，成就了西班牙菜美味多变的特点。响当当的火腿、肉肠和鸡蛋土豆煎饼统称为西班牙的三大小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5:30:12Z</dcterms:created>
  <dc:creator>qingchen</dc:creator>
  <dc:description>  　  　</dc:description>
  <cp:keywords>　  　</cp:keywords>
  <dc:language>en-US</dc:language>
  <cp:lastModifiedBy>qingchen</cp:lastModifiedBy>
  <dcterms:modified xsi:type="dcterms:W3CDTF">2010-05-26T02:45:06Z</dcterms:modified>
  <cp:revision>5</cp:revision>
  <dc:subject/>
  <dc:title>美食城市</dc:title>
</cp:coreProperties>
</file>